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04D-4A08-4786-A0FA-CB308D32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D32-51C8-4382-BE88-2B86064A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7A3-6CCC-44B8-86D5-92FD1DDF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B0A-04A7-40B7-A748-0ABF0401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AB3D-49D7-41C5-B4DA-2A028DCC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57C7-F839-49BC-BA79-38BA9C69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3BDF-AB56-4BDD-85A2-550CD84A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E5B5-EB8E-4BAD-8D59-4FC550E7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5C8-3112-4352-908E-A0C6AE47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665D-9058-4931-8731-C78A9A6F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C92B-EFED-4A86-8D29-B60390BE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EB7-8430-4FFE-8B7F-2D98B17C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4048-1A4D-4D5C-9C4C-6F9A24EF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9474-198D-4C24-B676-067C7EA0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5C1D-719A-469A-AC78-304B37BD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A0E7-9CEA-429D-9C8B-6A6E5CA6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FFC0-B6DA-491F-A17E-CE9284F8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945-D314-407C-AFF1-18A0DD33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542-6314-45E3-9B11-782FF290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70B-854E-4E8C-A2F6-4AA7038E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03A-A6A4-40FD-B6D0-3492C32F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57A-FC1F-4467-82B8-26ACE31F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5CC-3C80-4650-9194-5E5F78DB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26C-7B2F-4CD4-806C-B079DE74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C8C4-A9A5-419B-ABBD-595D936C7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0602-25B2-4ADC-B7CE-9CC0484D6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sr-RS" sz="4800" spc="-1" strike="noStrike">
                <a:solidFill>
                  <a:srgbClr val="ffffb7"/>
                </a:solidFill>
                <a:latin typeface="Comic Sans MS"/>
              </a:rPr>
              <a:t>Запаљењске б</a:t>
            </a:r>
            <a:r>
              <a:rPr b="1" lang="sr-CS" sz="4800" spc="-1" strike="noStrike">
                <a:solidFill>
                  <a:srgbClr val="ffffb7"/>
                </a:solidFill>
                <a:latin typeface="Comic Sans MS"/>
              </a:rPr>
              <a:t>олести</a:t>
            </a:r>
            <a:r>
              <a:rPr b="1" lang="sr-Latn-CS" sz="48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800" spc="-1" strike="noStrike">
                <a:solidFill>
                  <a:srgbClr val="ffffb7"/>
                </a:solidFill>
                <a:latin typeface="Comic Sans MS"/>
              </a:rPr>
              <a:t>мозг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94136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Гордан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он</a:t>
            </a: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ч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нош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глав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рње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спираторно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атог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ранеуронал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уж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анијалн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атофизиолог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ензив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а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суда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трофи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укоцит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642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Симптом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060640"/>
            <a:ext cx="7543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техиј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Клинички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налаз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49000"/>
            <a:ext cx="80074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ош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гн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8964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т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иш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тис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лиморфонуклеар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100 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гликорах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CT mozg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Odmah  - edem moz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Kasnije  - hidrocefa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ELISA te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Терапиј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биоти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с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уберкулоз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82320" y="1974960"/>
            <a:ext cx="7340760" cy="39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а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уберкулозн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ктерием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уберкулоз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ус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ичменој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и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у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уберкулом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упту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барахноид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ст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ор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с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мпто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54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специфич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аксал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шић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пич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ензив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рућ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муће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уберкулоз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61048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рганизова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суд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кундар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ек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а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ки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нфекци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ЦН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ит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нцефалит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оенцефалит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азит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еребр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псце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линичк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знац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т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аниј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рв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иплег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апле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6104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Т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ућ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½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зити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уберкулонс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ж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с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гатив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100-400)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гликорах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улту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већа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зал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истер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денз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зал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дроцефал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Streptomycin i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Isoniasid per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Rifampic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Pyridoxine – do dve god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22320" y="282240"/>
            <a:ext cx="76867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Гљивич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глав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нско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спергил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ндидиј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нцефалити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рус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ктериј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нцефал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линичка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лика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ненад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е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енерализова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сихич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нцефал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јас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а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Е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пич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ажњ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денз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јас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гранич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раг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денз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мпорал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ронтал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жњ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п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нцефал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ш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рагич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ик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ш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нохемијск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хник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дентифик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улту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дентифик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ктер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иопс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6760" y="228600"/>
            <a:ext cx="8101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нцефал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Virusni - Acyclov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Bakterijski - Kortikosteroid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(16mg Dexasona u bolusu i.v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Antibiotic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četvrta generacija cefalospor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Vancomyc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Doxicycl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Acyclov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Parazitne infekcije C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Hidantina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Cisticerko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54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rusni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- HS, HZ, EB, West Nile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mums, varicella, rubella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kterijski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- Haemophilus infl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Neisseria meningit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Streptoccocus pneumo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T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Gljivični       - Aspergi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Cand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Hidantina bole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4100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Taenia echinococ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Cistično stanje - ciste sa dvostrukim zi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Ciste - u jet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u pluć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u moz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Klinička slika - epi napa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glavobo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asimptomat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Dijagnoza - CT mozga - često slučajan nalaz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Cisticerkoz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Taenia solium - Cistično stanje – 60-90% cista u CNS-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Multifokalne ciste u raznim fazama razvoja (od perifokalnog edema do kalcifikaci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Klinička slika - ½ asimptomats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½ epi napa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čest arahnoiditis→hidrocefal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Cisticerkoz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Dijagnoza - CT mozga (često slučajan nala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Likvor - eozinofili→aktivna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Antitela u serumu i likvo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Terapija - Praziquantel ili Albenda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Kortikosteroi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Церебрал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псце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нтинуитат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екц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аназалн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едње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атоге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ир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ућ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екц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→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птич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мболус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→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е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ламац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роз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рагиј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илтр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линуклеа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f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Церебрални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апсцеси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-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Клиничка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сли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омнолен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ад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ективно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др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мњ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рнијациј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Церебралн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апсце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13920"/>
            <a:ext cx="8785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Е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пор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ди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П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!!!!!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48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П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хомофе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равн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вица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једначен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бојавањ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вањ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аст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авилн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лик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н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ст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о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биоти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тикостерои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еуросифил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yphilis sive morbus Gallicus”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rolamo Fracasto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еуросифил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понем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лиду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.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марн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кундар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цијалн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ffffb7"/>
                </a:solidFill>
                <a:latin typeface="Comic Sans MS"/>
              </a:rPr>
              <a:t>Примарни</a:t>
            </a:r>
            <a:r>
              <a:rPr b="1" lang="en-US" sz="4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200" spc="-1" strike="noStrike">
                <a:solidFill>
                  <a:srgbClr val="ffffb7"/>
                </a:solidFill>
                <a:latin typeface="Comic Sans MS"/>
              </a:rPr>
              <a:t>сифилис</a:t>
            </a: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н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н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сту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ок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нир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онта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3-6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де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тент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риод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деља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сеци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зитивн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ролог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ffffb7"/>
                </a:solidFill>
                <a:latin typeface="Comic Sans MS"/>
              </a:rPr>
              <a:t>Секундарни</a:t>
            </a:r>
            <a:r>
              <a:rPr b="1" lang="sl-SI" sz="4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200" spc="-1" strike="noStrike">
                <a:solidFill>
                  <a:srgbClr val="ffffb7"/>
                </a:solidFill>
                <a:latin typeface="Comic Sans MS"/>
              </a:rPr>
              <a:t>сифилис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и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оз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па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мфаден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ноше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атог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ранеуронал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зонск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авља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ластер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т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с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ffffb7"/>
                </a:solidFill>
                <a:latin typeface="Comic Sans MS"/>
              </a:rPr>
              <a:t>Терцијални</a:t>
            </a:r>
            <a:r>
              <a:rPr b="1" lang="en-US" sz="4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600" spc="-1" strike="noStrike">
                <a:solidFill>
                  <a:srgbClr val="ffffb7"/>
                </a:solidFill>
                <a:latin typeface="Comic Sans MS"/>
              </a:rPr>
              <a:t>сифилис</a:t>
            </a:r>
            <a:endParaRPr b="1" lang="en-US" sz="4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диоваскулар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200" spc="-1" strike="noStrike">
                <a:solidFill>
                  <a:srgbClr val="ffffb7"/>
                </a:solidFill>
                <a:latin typeface="Comic Sans MS"/>
              </a:rPr>
              <a:t>Неуросифилис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582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Рано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току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риваскулар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илтр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т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лузиј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Касн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генер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мира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и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троф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тање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илтр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ганглијск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лов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рзалн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ен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троф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дњ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лум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ичме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22320" y="282600"/>
            <a:ext cx="7686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ffffb7"/>
                </a:solidFill>
                <a:latin typeface="Comic Sans MS"/>
              </a:rPr>
              <a:t>Неуросифилис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30592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симптоматс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с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оваскул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енхиматоз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менти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алит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бе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рса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м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6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генит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Асимптоматски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мфоцит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ДРЛ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Акутни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симптоматски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сифилисни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менингит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рри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193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6.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7.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8.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аниј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р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д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ишен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тиск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мфоцит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глик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ДРЛ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74960"/>
            <a:ext cx="778536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i="1" lang="sl-SI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Менинговаскул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л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ламациј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нсверз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јелит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аплегиј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ад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нзибили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ол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финкте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ме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304920"/>
            <a:ext cx="8964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аренхиматозни</a:t>
            </a: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еменциа</a:t>
            </a: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аралити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о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електу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териор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м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зи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ук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нормално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ениц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ол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ш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Табес</a:t>
            </a: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орса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дикулар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естез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зестез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убоко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брационо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нзибили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ме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е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таксич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од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цинант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ов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шк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тали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Гуме</a:t>
            </a: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ЦН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залн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истерн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птоменинге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енхи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6.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нгенитални</a:t>
            </a: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r>
              <a:rPr b="0" lang="sl-SI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ffffb7"/>
                </a:solidFill>
                <a:latin typeface="Comic Sans MS"/>
              </a:rPr>
              <a:t>Епидемиологија</a:t>
            </a:r>
            <a:r>
              <a:rPr b="1" lang="sl-SI" sz="33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300" spc="-1" strike="noStrike">
                <a:solidFill>
                  <a:srgbClr val="ffffb7"/>
                </a:solidFill>
                <a:latin typeface="Comic Sans MS"/>
              </a:rPr>
              <a:t>неуросифилиса</a:t>
            </a:r>
            <a:endParaRPr b="1" lang="en-US" sz="3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бе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рса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падањ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аст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симптоматс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с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оваскул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в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нт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ецифич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стов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тел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тив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понем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лиду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ницилли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10-14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4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т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Хвала на пажњ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мпто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989000"/>
            <a:ext cx="7543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тофоб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алг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рал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тк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ол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–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Клиничк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налаз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492280"/>
            <a:ext cx="8007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ацијент</a:t>
            </a:r>
            <a:r>
              <a:rPr b="0" lang="sl-SI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вестан</a:t>
            </a:r>
            <a:r>
              <a:rPr b="0" lang="sl-SI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адекватан</a:t>
            </a:r>
            <a:r>
              <a:rPr b="0" lang="sl-SI" sz="2400" spc="-1" strike="noStrike">
                <a:solidFill>
                  <a:srgbClr val="ffff66"/>
                </a:solidFill>
                <a:latin typeface="Comic Sans MS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–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теин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мфоцит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1000/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м</a:t>
            </a:r>
            <a:r>
              <a:rPr b="0" lang="sl-SI" sz="24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baseline="30000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ик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глик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ед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орис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ол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ген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чај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ас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тел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пе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ецифич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стов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курент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итис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мњ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јмск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вирус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пстан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ц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ов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алге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пире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0:31:44Z</dcterms:created>
  <dc:creator>Goca Toncev</dc:creator>
  <dc:description/>
  <dc:language>en-US</dc:language>
  <cp:lastModifiedBy>Gordana Toncev</cp:lastModifiedBy>
  <dcterms:modified xsi:type="dcterms:W3CDTF">2020-09-26T09:10:25Z</dcterms:modified>
  <cp:revision>25</cp:revision>
  <dc:subject/>
  <dc:title>Infektivne bolesti centralnog nervnog sistema Neurološke komplikacije sistemskih oboljenja</dc:title>
</cp:coreProperties>
</file>